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B1093210-2B4F-4D81-A95D-427C37CC094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BE5A2CFF-80AE-4D40-95AC-0EF77D01CC9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Module: Teaching PSP1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udent Presentations - Evaluation Criteria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8763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good rapport with participants (e.g., faces class, maintains eye contact, call participants by names.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understanding of PSP material; has an acceptable working knowledge of PSP content and applic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acilitates exercises as instructed; provides appropriate guidance for participants; debriefs exercises appropriatel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courages participant involvement/interac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tains control of course delivery; pays attention to binning inappropriate topic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onds appropriately and accurately to participant questions; re-frames as necessar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materials at a level and rate that enables both participant learning and timely course comple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participant understanding and learn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and maintains participant inter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1 the students lear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lexible estimating and planning framework driven by a size estimate and historical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xy-based estimating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istical techniques for improving estimates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at accurate plans put them in control of their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find PROBE hard to learn, but effective and easy to use, once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odule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objectives of PSP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recommended approach to teaching PSP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you to participate and learn from teaching demonstrations of selected PSP1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1 learning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pics covered in PSP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damental Planning Concep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ning and Tracking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and Tracking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Methods A &amp; B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 PROBE I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1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1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 orderly and repeatable procedure for estimating software size and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e and practice methods for making and tracking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Objectives for PSP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lexible estimating and planning framework driven by a size estimate and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xy-based estimating and statistical techniques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at accurate plans put them in control of their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find PROBE hard to learn, but effective and easy to use, once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cite the interim report as a key learning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17720" y="882360"/>
            <a:ext cx="78278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10 Day / 8 Program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3 – PSP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 PROBE I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1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near regression/correlation program assignment (program 3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4 – PSP1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 PROBE II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1.1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ive size table program assignment (Program 4)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ning and tracking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im repor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code review checklis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8000" y="882360"/>
            <a:ext cx="80265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6467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2 – Fundament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undamental Planning Concepts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nting/Coding standard report assign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PSP1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counter program assignment (program 2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4 - Fundament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chedule planning and tracking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2 – Advanc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vanced planning lect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BE method A &amp; B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1.1 is not covered as a separate process level, no tutorial or program for PSP1.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re is no interim analysis repo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17720" y="1709640"/>
          <a:ext cx="7413480" cy="4659480"/>
        </p:xfrm>
        <a:graphic>
          <a:graphicData uri="http://schemas.openxmlformats.org/drawingml/2006/table">
            <a:tbl>
              <a:tblPr/>
              <a:tblGrid>
                <a:gridCol w="1492200"/>
                <a:gridCol w="2963880"/>
                <a:gridCol w="2957400"/>
              </a:tblGrid>
              <a:tr h="45720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Overview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0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follow a defined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llect complete, consistent and accurate time, size, defect, and schedule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and instrument a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evolve a process based on analysis and PIP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1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a defined estimating process with limited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plan status and project likely completion dat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statistical methods improvement their estimates and calculate prediction interv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estimating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316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2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build personal design and review checklist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nduct a personal review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quality status and project likely final quality levels.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reate designs that are reviewable and verifiable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verify designs using different techniqu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overall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Capstone Exerci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and use personal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work in a team environment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erformance Analysis Repor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identify their strengths and weakness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set challenging and realistic personal improvement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changes required to achieve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3Z</dcterms:modified>
  <cp:revision>207</cp:revision>
  <dc:subject/>
  <dc:title>No Slide Title</dc:title>
</cp:coreProperties>
</file>